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B463-8866-44AD-97F4-533DDDF5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Tyler - First ‘accidental’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g by condition – anti Jackson but state’s rights pro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bank, anti tariff, anti-army, anti-suffrage w/o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ter-Ashburton Treaty for Maine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xation of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claim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oneers flock to Oregon – outnumber British sett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cries for all of Orego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fest destiny becomes the main issue of election of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Clay – Wh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K. Polk – 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:  annexation of Texas, Oregon, bank and tar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Oregon territory w/o f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change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k wants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 wants resolution o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s Slidell to negotiate – Mexico says no – Polk send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 attack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lares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mot Proviso calls for no extension of slavery i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s HOR but not 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ylor and Scott very successful against Santa 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s future military leaders of Civil War and creates new tac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y of Guadalupe Hidal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n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s of 18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crats – Lewis Cass – old war veteran, proponent of popular sovereig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gs – Zachary Taylor – hero of M-A war, no former experience, slave ow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-Soilers – MV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Wilmot Proviso, no expansion of slavery, promote sett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 soil, speech, labor, and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very of Gold fuels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government – no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itution prohibits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away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r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changes 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– New Mexico disputed terri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C. issues of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793-7618-4CAF-B2E5-8269A291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A53-5793-421D-A2F7-D3FFB032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757-C6E5-4622-9EF8-87E96B69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43E-439D-4644-8052-98C950BB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7D9-5BBE-46F7-89F1-CFF9FF8D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5BD-0B3C-4157-A75E-92CC8735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3B6-A586-4DDB-91C5-F7BCB0F7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B3D-0893-47B4-B3E7-4D54C0B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B22-554E-4A4D-9E6A-99C778B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435-2FB2-4108-834B-E86A00D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0D2-FFD3-4D07-9604-39F6C6C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02A-94F7-472A-916B-BC5AFA5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66A-4A8F-45DA-A7F2-FDDA4AA2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 and Manifest Des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 Read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ation Revol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85-3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ce and Impac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 and Steamb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Impact of Transportatio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Revol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90-3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-Ou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s and Early Union Movements Pages 396-4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ll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impact of factor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Labor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 / Transcendentalis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s 404-4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Industrial Revolution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endent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  Why? 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62-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necessar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ostook War (not in the 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k’s Administ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0-4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with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ll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an – Americ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 (mentioned on pg 4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Guadalupe Hidal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7-4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So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08:29Z</dcterms:created>
  <dc:creator>School District U46</dc:creator>
  <dc:description/>
  <dc:language>en-US</dc:language>
  <cp:lastModifiedBy>School District U46</cp:lastModifiedBy>
  <dcterms:modified xsi:type="dcterms:W3CDTF">2010-10-20T15:08:48Z</dcterms:modified>
  <cp:revision>1</cp:revision>
  <dc:subject/>
  <dc:title>Industrial Revolution and Manifest Destiny</dc:title>
</cp:coreProperties>
</file>